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44C4-2082-4DAA-B749-F1397A07B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239F-EEF5-4B8A-BB25-86C68E7A37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E2C1-7372-476A-8352-A9CEA3B8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ADE7-7F67-477F-A4D0-8B43C926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E179-3F65-4485-8382-E30920851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04DB-AC7A-4BB7-8B6D-F936F6588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1432-842C-4363-A45C-E6D959FD6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A28E-C930-4622-A822-E821BD90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31A7-3C9C-420B-80D2-F0D0145A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510C-F071-4B11-9A88-639649D1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841D-259C-4CFE-9CCD-C2436093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C9C0-0A0F-4C3A-B6DF-AC79AE90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82E1B-71DB-48EB-B952-E2EB512A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6CA6-5B63-4027-A6D5-76D098E2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9EC1-0D9E-4343-8C27-98E4F916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DFDF-AC01-4C3A-9050-65A838BC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E5F3-501D-44C5-A583-F87166BF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94D3-17BF-4876-821D-DA0927F58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E304-FADE-4A8E-AA98-8688B4656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C521-0A3B-4F3A-B78A-9484FB64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1D95-79E9-45B5-A3C5-63EE96D6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7EED-0EEB-4237-92A0-01EF524B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4687-651C-4A2D-AF31-D0518E56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041E-B7D7-40D1-8A73-5CBF4245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DD6C-3F01-4757-BC22-CB02B6DA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BFB9-8A2E-490E-94CB-D918CF83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1F12-EA79-4A05-8376-8DD12BBC4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0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C927-C257-48EF-8F7D-E13BA53D77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C’est à toi – Level 2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itre 9 – Deuxième Éta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mma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sé Composé vs. Imparfa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tiquons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undi, il n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fai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1. pas beau! J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sui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2. mal luné et j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a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3. beaucoup de devoirs. Je n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veux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4. pas aller à l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école. D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bord, je m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réveille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. à 5h et puis j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mang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6. le petit déjeuner. J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r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7. de la maison mai tout à coup j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tomb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8. dans la ru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tiquons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lheureusement, j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arriv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9. en retard à l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école et j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ui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10. collé. Quelle journée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tiquons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undi, il ne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faisai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as beau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tiquons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. J</a:t>
            </a:r>
            <a:r>
              <a:rPr b="1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étai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mal lun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tiquons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.  j</a:t>
            </a:r>
            <a:r>
              <a:rPr b="1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avai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eaucoup de devoir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tiquons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. ne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voulai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as aller à l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éco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tiquons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bord,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je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me sui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réveillé(e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à 5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tiquons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uis,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6. J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ai mangé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mon petit déjeun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tiquons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uis parti(e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de la mais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tiquons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8.  mais tout à coup , j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suis tombé(e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dans la ru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assé Composé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ls sont des exemples du passé composé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 fa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 mang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 suis allé(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 me suis promené(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tiquons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38224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9. Malheursement, j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suis arrivé(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 en retard à l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éco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tiquons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t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. j</a:t>
            </a:r>
            <a:r>
              <a:rPr b="1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ai été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ollé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tiquons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Quelle journée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assé Composé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urquoi est-ce qu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utilise le passé composé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tilise pou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écrire un évenement qui s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 passé dans un moment (vi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écrire des évenement qui se sont passés l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 après l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re (une liste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assé Composé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 rencontré un garçon su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 me suis réveillée. Je me suis habillée. J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 mangé le petit déjeuner. Je suis allée à 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école. J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 oublié mes devoir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mparfai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ls sont des exemples de 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arfa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éta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 fais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 parl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mparfai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urquoi est-ce qu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utilise 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arfa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ur parler des choses qui se passent pendant L O N G T E M P 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ur faire des descrip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mparfai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mp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 matin, il faisait froid! Il pleuvait aussi. J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étais fatiqué et j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étais mala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b7"/>
                </a:solidFill>
                <a:latin typeface="Arial Black"/>
              </a:rPr>
              <a:t>P.C. vs. Imparfai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685800" y="4724280"/>
            <a:ext cx="3886200" cy="990720"/>
          </a:xfrm>
          <a:prstGeom prst="leftRightArrow">
            <a:avLst>
              <a:gd name="adj1" fmla="val 50000"/>
              <a:gd name="adj2" fmla="val 78089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  M  P  A  R  F  A  I  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4572000" y="3657600"/>
            <a:ext cx="533520" cy="3124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3124080" y="1752480"/>
            <a:ext cx="838440" cy="3200400"/>
          </a:xfrm>
          <a:prstGeom prst="downArrow">
            <a:avLst>
              <a:gd name="adj1" fmla="val 50000"/>
              <a:gd name="adj2" fmla="val 9542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P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5105520" y="4724280"/>
            <a:ext cx="3962160" cy="990720"/>
          </a:xfrm>
          <a:prstGeom prst="leftRightArrow">
            <a:avLst>
              <a:gd name="adj1" fmla="val 50000"/>
              <a:gd name="adj2" fmla="val 79615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F U T U 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2133720" y="1752480"/>
            <a:ext cx="838080" cy="3200400"/>
          </a:xfrm>
          <a:prstGeom prst="downArrow">
            <a:avLst>
              <a:gd name="adj1" fmla="val 50000"/>
              <a:gd name="adj2" fmla="val 95468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P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1219320" y="1752480"/>
            <a:ext cx="838080" cy="3200400"/>
          </a:xfrm>
          <a:prstGeom prst="downArrow">
            <a:avLst>
              <a:gd name="adj1" fmla="val 50000"/>
              <a:gd name="adj2" fmla="val 95468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P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tiquons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tenant, prenons un paragraphe et mettez-le au passé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c, pensez aux fonctions du PASSÉ COMPOSÉ et de 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ARFA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Viviane Grebert</cp:lastModifiedBy>
  <dcterms:modified xsi:type="dcterms:W3CDTF">2012-05-03T22:00:02Z</dcterms:modified>
  <cp:revision>74</cp:revision>
  <dc:subject/>
  <dc:title>Allez, viens! – Level 2</dc:title>
</cp:coreProperties>
</file>